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EF3423-51CC-4EFB-9BBF-C957CF582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BF5F0-0923-4B0F-9964-77830C35E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DF4388-7385-4A05-B280-40753EDCDB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23393-B727-4502-A28F-6AAC49F10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2C288E-75BE-4935-9375-88075CE95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5CB2B-7C3B-4DCD-BA0F-AA45451218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A32B7-6B03-408D-B47E-E2F59C430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5BC27-A4B3-4636-A39A-D7179173D4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8D4E1-4503-48EF-AFCB-6791451A8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F3D7E-D1BE-40EF-B603-EB040EAA06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DE462-60FB-4E3A-8893-86C1FE4F0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06038-2630-4CEF-8DC5-5F814D743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4ED673-6697-40B7-8D04-A5A50DBA0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7A492-2691-4F73-949A-9E1CD6818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9106B-38FC-4CF0-9BAC-BFA748259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5C1FC2-71B8-4E28-8C37-69B070EA9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185AE8-09D4-404F-A69B-B95A4966BB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C9123-C6ED-427E-9FDE-1B455E34B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9D003-FEC3-4A88-B4B4-5CC346AD2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B3A67-B34C-4581-9148-9CF0B8299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65C57-F9FB-4F73-8093-D5AC694A7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8F925-D715-4AF2-88E2-47E5E9C0D9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E8798-8802-4260-8B05-2D87F78F0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0D0A-825E-4892-AC55-A84F8A41F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FE039-5421-4504-BB46-362105AE0771}"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59FD-018B-4E14-AD56-04DD4CC0A67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380880" y="762120"/>
            <a:ext cx="9785160" cy="5892840"/>
            <a:chOff x="380880" y="762120"/>
            <a:chExt cx="9785160" cy="5892840"/>
          </a:xfrm>
        </p:grpSpPr>
        <p:sp>
          <p:nvSpPr>
            <p:cNvPr id="92" name=""/>
            <p:cNvSpPr/>
            <p:nvPr/>
          </p:nvSpPr>
          <p:spPr>
            <a:xfrm>
              <a:off x="1660680" y="762120"/>
              <a:ext cx="75553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5400" spc="-1" strike="noStrike">
                  <a:solidFill>
                    <a:srgbClr val="ffffcc"/>
                  </a:solidFill>
                  <a:latin typeface="Times New Roman"/>
                </a:rPr>
                <a:t>Geschichte Israel ( Zitate)</a:t>
              </a:r>
              <a:endParaRPr b="0" lang="en-US" sz="5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imes New Roman"/>
              </a:endParaRPr>
            </a:p>
          </p:txBody>
        </p:sp>
        <p:grpSp>
          <p:nvGrpSpPr>
            <p:cNvPr id="93" name=""/>
            <p:cNvGrpSpPr/>
            <p:nvPr/>
          </p:nvGrpSpPr>
          <p:grpSpPr>
            <a:xfrm>
              <a:off x="380880" y="3353040"/>
              <a:ext cx="9785160" cy="2389320"/>
              <a:chOff x="380880" y="3353040"/>
              <a:chExt cx="9785160" cy="2389320"/>
            </a:xfrm>
          </p:grpSpPr>
          <p:pic>
            <p:nvPicPr>
              <p:cNvPr id="94" name="israel_flag" descr=""/>
              <p:cNvPicPr/>
              <p:nvPr/>
            </p:nvPicPr>
            <p:blipFill>
              <a:blip r:embed="rId1"/>
              <a:stretch/>
            </p:blipFill>
            <p:spPr>
              <a:xfrm>
                <a:off x="6873480" y="3353040"/>
                <a:ext cx="3292560" cy="2389320"/>
              </a:xfrm>
              <a:prstGeom prst="rect">
                <a:avLst/>
              </a:prstGeom>
              <a:ln w="0">
                <a:noFill/>
              </a:ln>
            </p:spPr>
          </p:pic>
          <p:pic>
            <p:nvPicPr>
              <p:cNvPr id="95" name="israel_flag" descr=""/>
              <p:cNvPicPr/>
              <p:nvPr/>
            </p:nvPicPr>
            <p:blipFill>
              <a:blip r:embed="rId2"/>
              <a:stretch/>
            </p:blipFill>
            <p:spPr>
              <a:xfrm>
                <a:off x="3657240" y="3353040"/>
                <a:ext cx="3292560" cy="2389320"/>
              </a:xfrm>
              <a:prstGeom prst="rect">
                <a:avLst/>
              </a:prstGeom>
              <a:ln w="0">
                <a:noFill/>
              </a:ln>
            </p:spPr>
          </p:pic>
          <p:pic>
            <p:nvPicPr>
              <p:cNvPr id="96" name="israel_flag" descr=""/>
              <p:cNvPicPr/>
              <p:nvPr/>
            </p:nvPicPr>
            <p:blipFill>
              <a:blip r:embed="rId3"/>
              <a:stretch/>
            </p:blipFill>
            <p:spPr>
              <a:xfrm>
                <a:off x="380880" y="3353040"/>
                <a:ext cx="3292200" cy="2389320"/>
              </a:xfrm>
              <a:prstGeom prst="rect">
                <a:avLst/>
              </a:prstGeom>
              <a:ln w="0">
                <a:noFill/>
              </a:ln>
            </p:spPr>
          </p:pic>
        </p:grpSp>
        <p:grpSp>
          <p:nvGrpSpPr>
            <p:cNvPr id="97" name=""/>
            <p:cNvGrpSpPr/>
            <p:nvPr/>
          </p:nvGrpSpPr>
          <p:grpSpPr>
            <a:xfrm>
              <a:off x="549000" y="2413080"/>
              <a:ext cx="9144000" cy="863640"/>
              <a:chOff x="549000" y="2413080"/>
              <a:chExt cx="9144000" cy="863640"/>
            </a:xfrm>
          </p:grpSpPr>
          <p:pic>
            <p:nvPicPr>
              <p:cNvPr id="98" name="DAVID%20BEN-GURION" descr=""/>
              <p:cNvPicPr/>
              <p:nvPr/>
            </p:nvPicPr>
            <p:blipFill>
              <a:blip r:embed="rId4"/>
              <a:stretch/>
            </p:blipFill>
            <p:spPr>
              <a:xfrm>
                <a:off x="549000" y="2413080"/>
                <a:ext cx="736560" cy="863640"/>
              </a:xfrm>
              <a:prstGeom prst="rect">
                <a:avLst/>
              </a:prstGeom>
              <a:ln w="0">
                <a:noFill/>
              </a:ln>
            </p:spPr>
          </p:pic>
          <p:pic>
            <p:nvPicPr>
              <p:cNvPr id="99" name="MOSHE%20SHARETT" descr=""/>
              <p:cNvPicPr/>
              <p:nvPr/>
            </p:nvPicPr>
            <p:blipFill>
              <a:blip r:embed="rId5"/>
              <a:stretch/>
            </p:blipFill>
            <p:spPr>
              <a:xfrm>
                <a:off x="1311120" y="2413080"/>
                <a:ext cx="736560" cy="863640"/>
              </a:xfrm>
              <a:prstGeom prst="rect">
                <a:avLst/>
              </a:prstGeom>
              <a:ln w="0">
                <a:noFill/>
              </a:ln>
            </p:spPr>
          </p:pic>
          <p:pic>
            <p:nvPicPr>
              <p:cNvPr id="100" name="LEVI%20ESHKOL" descr=""/>
              <p:cNvPicPr/>
              <p:nvPr/>
            </p:nvPicPr>
            <p:blipFill>
              <a:blip r:embed="rId6"/>
              <a:stretch/>
            </p:blipFill>
            <p:spPr>
              <a:xfrm>
                <a:off x="2072880" y="2413080"/>
                <a:ext cx="736560" cy="863640"/>
              </a:xfrm>
              <a:prstGeom prst="rect">
                <a:avLst/>
              </a:prstGeom>
              <a:ln w="0">
                <a:noFill/>
              </a:ln>
            </p:spPr>
          </p:pic>
          <p:pic>
            <p:nvPicPr>
              <p:cNvPr id="101" name="GOLDA%20MEIR" descr=""/>
              <p:cNvPicPr/>
              <p:nvPr/>
            </p:nvPicPr>
            <p:blipFill>
              <a:blip r:embed="rId7"/>
              <a:stretch/>
            </p:blipFill>
            <p:spPr>
              <a:xfrm>
                <a:off x="2835000" y="2413080"/>
                <a:ext cx="736560" cy="863640"/>
              </a:xfrm>
              <a:prstGeom prst="rect">
                <a:avLst/>
              </a:prstGeom>
              <a:ln w="0">
                <a:noFill/>
              </a:ln>
            </p:spPr>
          </p:pic>
          <p:pic>
            <p:nvPicPr>
              <p:cNvPr id="102" name="Yitzhak%20Rabin%20" descr=""/>
              <p:cNvPicPr/>
              <p:nvPr/>
            </p:nvPicPr>
            <p:blipFill>
              <a:blip r:embed="rId8"/>
              <a:stretch/>
            </p:blipFill>
            <p:spPr>
              <a:xfrm>
                <a:off x="3622320" y="2413080"/>
                <a:ext cx="736560" cy="863640"/>
              </a:xfrm>
              <a:prstGeom prst="rect">
                <a:avLst/>
              </a:prstGeom>
              <a:ln w="0">
                <a:noFill/>
              </a:ln>
            </p:spPr>
          </p:pic>
          <p:pic>
            <p:nvPicPr>
              <p:cNvPr id="103" name="MENACHEM%20BEGIN" descr=""/>
              <p:cNvPicPr/>
              <p:nvPr/>
            </p:nvPicPr>
            <p:blipFill>
              <a:blip r:embed="rId9"/>
              <a:stretch/>
            </p:blipFill>
            <p:spPr>
              <a:xfrm>
                <a:off x="4384440" y="2413080"/>
                <a:ext cx="736560" cy="863640"/>
              </a:xfrm>
              <a:prstGeom prst="rect">
                <a:avLst/>
              </a:prstGeom>
              <a:ln w="0">
                <a:noFill/>
              </a:ln>
            </p:spPr>
          </p:pic>
          <p:pic>
            <p:nvPicPr>
              <p:cNvPr id="104" name="YITZHAK%20SHAMIR" descr=""/>
              <p:cNvPicPr/>
              <p:nvPr/>
            </p:nvPicPr>
            <p:blipFill>
              <a:blip r:embed="rId10"/>
              <a:stretch/>
            </p:blipFill>
            <p:spPr>
              <a:xfrm>
                <a:off x="5146560" y="2413080"/>
                <a:ext cx="736560" cy="863640"/>
              </a:xfrm>
              <a:prstGeom prst="rect">
                <a:avLst/>
              </a:prstGeom>
              <a:ln w="0">
                <a:noFill/>
              </a:ln>
            </p:spPr>
          </p:pic>
          <p:pic>
            <p:nvPicPr>
              <p:cNvPr id="105" name="SHIMON%20PERES" descr=""/>
              <p:cNvPicPr/>
              <p:nvPr/>
            </p:nvPicPr>
            <p:blipFill>
              <a:blip r:embed="rId11"/>
              <a:stretch/>
            </p:blipFill>
            <p:spPr>
              <a:xfrm>
                <a:off x="5908320" y="2413080"/>
                <a:ext cx="736560" cy="863640"/>
              </a:xfrm>
              <a:prstGeom prst="rect">
                <a:avLst/>
              </a:prstGeom>
              <a:ln w="0">
                <a:noFill/>
              </a:ln>
            </p:spPr>
          </p:pic>
          <p:pic>
            <p:nvPicPr>
              <p:cNvPr id="106" name="Benjamin%20Netanyahu" descr=""/>
              <p:cNvPicPr/>
              <p:nvPr/>
            </p:nvPicPr>
            <p:blipFill>
              <a:blip r:embed="rId12"/>
              <a:stretch/>
            </p:blipFill>
            <p:spPr>
              <a:xfrm>
                <a:off x="6670440" y="2413080"/>
                <a:ext cx="736560" cy="863640"/>
              </a:xfrm>
              <a:prstGeom prst="rect">
                <a:avLst/>
              </a:prstGeom>
              <a:ln w="0">
                <a:noFill/>
              </a:ln>
            </p:spPr>
          </p:pic>
          <p:pic>
            <p:nvPicPr>
              <p:cNvPr id="107" name="EHUD%20BARAK" descr=""/>
              <p:cNvPicPr/>
              <p:nvPr/>
            </p:nvPicPr>
            <p:blipFill>
              <a:blip r:embed="rId13"/>
              <a:stretch/>
            </p:blipFill>
            <p:spPr>
              <a:xfrm>
                <a:off x="7432560" y="2426040"/>
                <a:ext cx="736560" cy="850680"/>
              </a:xfrm>
              <a:prstGeom prst="rect">
                <a:avLst/>
              </a:prstGeom>
              <a:ln w="0">
                <a:noFill/>
              </a:ln>
            </p:spPr>
          </p:pic>
          <p:pic>
            <p:nvPicPr>
              <p:cNvPr id="108" name="ARIEL%20SHARON" descr=""/>
              <p:cNvPicPr/>
              <p:nvPr/>
            </p:nvPicPr>
            <p:blipFill>
              <a:blip r:embed="rId14"/>
              <a:stretch/>
            </p:blipFill>
            <p:spPr>
              <a:xfrm>
                <a:off x="8194320" y="2413080"/>
                <a:ext cx="736560" cy="863640"/>
              </a:xfrm>
              <a:prstGeom prst="rect">
                <a:avLst/>
              </a:prstGeom>
              <a:ln w="0">
                <a:noFill/>
              </a:ln>
            </p:spPr>
          </p:pic>
          <p:pic>
            <p:nvPicPr>
              <p:cNvPr id="109" name="EZER%20WEIZMAN" descr=""/>
              <p:cNvPicPr/>
              <p:nvPr/>
            </p:nvPicPr>
            <p:blipFill>
              <a:blip r:embed="rId15"/>
              <a:stretch/>
            </p:blipFill>
            <p:spPr>
              <a:xfrm>
                <a:off x="8956440" y="2413080"/>
                <a:ext cx="736560" cy="863640"/>
              </a:xfrm>
              <a:prstGeom prst="rect">
                <a:avLst/>
              </a:prstGeom>
              <a:ln w="0">
                <a:noFill/>
              </a:ln>
            </p:spPr>
          </p:pic>
        </p:grpSp>
        <p:grpSp>
          <p:nvGrpSpPr>
            <p:cNvPr id="110" name=""/>
            <p:cNvGrpSpPr/>
            <p:nvPr/>
          </p:nvGrpSpPr>
          <p:grpSpPr>
            <a:xfrm>
              <a:off x="472680" y="5791320"/>
              <a:ext cx="9372600" cy="863640"/>
              <a:chOff x="472680" y="5791320"/>
              <a:chExt cx="9372600" cy="863640"/>
            </a:xfrm>
          </p:grpSpPr>
          <p:pic>
            <p:nvPicPr>
              <p:cNvPr id="111" name="Abba%20Eban%20" descr=""/>
              <p:cNvPicPr/>
              <p:nvPr/>
            </p:nvPicPr>
            <p:blipFill>
              <a:blip r:embed="rId16"/>
              <a:stretch/>
            </p:blipFill>
            <p:spPr>
              <a:xfrm>
                <a:off x="472680" y="5791320"/>
                <a:ext cx="736560" cy="863640"/>
              </a:xfrm>
              <a:prstGeom prst="rect">
                <a:avLst/>
              </a:prstGeom>
              <a:ln w="0">
                <a:noFill/>
              </a:ln>
            </p:spPr>
          </p:pic>
          <p:pic>
            <p:nvPicPr>
              <p:cNvPr id="112" name="DAVID%20LEVY" descr=""/>
              <p:cNvPicPr/>
              <p:nvPr/>
            </p:nvPicPr>
            <p:blipFill>
              <a:blip r:embed="rId17"/>
              <a:stretch/>
            </p:blipFill>
            <p:spPr>
              <a:xfrm>
                <a:off x="1869840" y="5791320"/>
                <a:ext cx="736560" cy="863640"/>
              </a:xfrm>
              <a:prstGeom prst="rect">
                <a:avLst/>
              </a:prstGeom>
              <a:ln w="0">
                <a:noFill/>
              </a:ln>
            </p:spPr>
          </p:pic>
          <p:pic>
            <p:nvPicPr>
              <p:cNvPr id="113" name="Binyamin%20Ze'ev%20Herzl" descr=""/>
              <p:cNvPicPr/>
              <p:nvPr/>
            </p:nvPicPr>
            <p:blipFill>
              <a:blip r:embed="rId18"/>
              <a:stretch/>
            </p:blipFill>
            <p:spPr>
              <a:xfrm>
                <a:off x="1222200" y="5791320"/>
                <a:ext cx="622080" cy="863640"/>
              </a:xfrm>
              <a:prstGeom prst="rect">
                <a:avLst/>
              </a:prstGeom>
              <a:ln w="0">
                <a:noFill/>
              </a:ln>
            </p:spPr>
          </p:pic>
          <p:pic>
            <p:nvPicPr>
              <p:cNvPr id="114" name="MOSHE%20ARENS" descr=""/>
              <p:cNvPicPr/>
              <p:nvPr/>
            </p:nvPicPr>
            <p:blipFill>
              <a:blip r:embed="rId19"/>
              <a:stretch/>
            </p:blipFill>
            <p:spPr>
              <a:xfrm>
                <a:off x="2631960" y="5791320"/>
                <a:ext cx="736560" cy="863640"/>
              </a:xfrm>
              <a:prstGeom prst="rect">
                <a:avLst/>
              </a:prstGeom>
              <a:ln w="0">
                <a:noFill/>
              </a:ln>
            </p:spPr>
          </p:pic>
          <p:pic>
            <p:nvPicPr>
              <p:cNvPr id="115" name="Moshe%20Dayan" descr=""/>
              <p:cNvPicPr/>
              <p:nvPr/>
            </p:nvPicPr>
            <p:blipFill>
              <a:blip r:embed="rId20"/>
              <a:stretch/>
            </p:blipFill>
            <p:spPr>
              <a:xfrm>
                <a:off x="3393720" y="5791320"/>
                <a:ext cx="736560" cy="863640"/>
              </a:xfrm>
              <a:prstGeom prst="rect">
                <a:avLst/>
              </a:prstGeom>
              <a:ln w="0">
                <a:noFill/>
              </a:ln>
            </p:spPr>
          </p:pic>
          <p:pic>
            <p:nvPicPr>
              <p:cNvPr id="116" name="Moshe%20Katsav" descr=""/>
              <p:cNvPicPr/>
              <p:nvPr/>
            </p:nvPicPr>
            <p:blipFill>
              <a:blip r:embed="rId21"/>
              <a:stretch/>
            </p:blipFill>
            <p:spPr>
              <a:xfrm>
                <a:off x="4155840" y="5791320"/>
                <a:ext cx="736560" cy="863640"/>
              </a:xfrm>
              <a:prstGeom prst="rect">
                <a:avLst/>
              </a:prstGeom>
              <a:ln w="0">
                <a:noFill/>
              </a:ln>
            </p:spPr>
          </p:pic>
          <p:pic>
            <p:nvPicPr>
              <p:cNvPr id="117" name="Rafael%20Eitan" descr=""/>
              <p:cNvPicPr/>
              <p:nvPr/>
            </p:nvPicPr>
            <p:blipFill>
              <a:blip r:embed="rId22"/>
              <a:stretch/>
            </p:blipFill>
            <p:spPr>
              <a:xfrm>
                <a:off x="4905000" y="5791320"/>
                <a:ext cx="596880" cy="863640"/>
              </a:xfrm>
              <a:prstGeom prst="rect">
                <a:avLst/>
              </a:prstGeom>
              <a:ln w="0">
                <a:noFill/>
              </a:ln>
            </p:spPr>
          </p:pic>
          <p:pic>
            <p:nvPicPr>
              <p:cNvPr id="118" name="Shaul%20Mofaz" descr=""/>
              <p:cNvPicPr/>
              <p:nvPr/>
            </p:nvPicPr>
            <p:blipFill>
              <a:blip r:embed="rId23"/>
              <a:stretch/>
            </p:blipFill>
            <p:spPr>
              <a:xfrm>
                <a:off x="5540040" y="5791320"/>
                <a:ext cx="647640" cy="863640"/>
              </a:xfrm>
              <a:prstGeom prst="rect">
                <a:avLst/>
              </a:prstGeom>
              <a:ln w="0">
                <a:noFill/>
              </a:ln>
            </p:spPr>
          </p:pic>
          <p:pic>
            <p:nvPicPr>
              <p:cNvPr id="119" name="SHLOMO%20BEN-AMI" descr=""/>
              <p:cNvPicPr/>
              <p:nvPr/>
            </p:nvPicPr>
            <p:blipFill>
              <a:blip r:embed="rId24"/>
              <a:stretch/>
            </p:blipFill>
            <p:spPr>
              <a:xfrm>
                <a:off x="6213240" y="5791320"/>
                <a:ext cx="660240" cy="863640"/>
              </a:xfrm>
              <a:prstGeom prst="rect">
                <a:avLst/>
              </a:prstGeom>
              <a:ln w="0">
                <a:noFill/>
              </a:ln>
            </p:spPr>
          </p:pic>
          <p:pic>
            <p:nvPicPr>
              <p:cNvPr id="120" name="YIGAL%20ALLON" descr=""/>
              <p:cNvPicPr/>
              <p:nvPr/>
            </p:nvPicPr>
            <p:blipFill>
              <a:blip r:embed="rId25"/>
              <a:stretch/>
            </p:blipFill>
            <p:spPr>
              <a:xfrm>
                <a:off x="6899040" y="5791320"/>
                <a:ext cx="736560" cy="863640"/>
              </a:xfrm>
              <a:prstGeom prst="rect">
                <a:avLst/>
              </a:prstGeom>
              <a:ln w="0">
                <a:noFill/>
              </a:ln>
            </p:spPr>
          </p:pic>
          <p:pic>
            <p:nvPicPr>
              <p:cNvPr id="121" name="Ze'ev%20Jabotinsky" descr=""/>
              <p:cNvPicPr/>
              <p:nvPr/>
            </p:nvPicPr>
            <p:blipFill>
              <a:blip r:embed="rId26"/>
              <a:stretch/>
            </p:blipFill>
            <p:spPr>
              <a:xfrm>
                <a:off x="7648200" y="5791320"/>
                <a:ext cx="673200" cy="863640"/>
              </a:xfrm>
              <a:prstGeom prst="rect">
                <a:avLst/>
              </a:prstGeom>
              <a:ln w="0">
                <a:noFill/>
              </a:ln>
            </p:spPr>
          </p:pic>
          <p:pic>
            <p:nvPicPr>
              <p:cNvPr id="122" name="CHAIM%20WEIZMANN" descr=""/>
              <p:cNvPicPr/>
              <p:nvPr/>
            </p:nvPicPr>
            <p:blipFill>
              <a:blip r:embed="rId27"/>
              <a:stretch/>
            </p:blipFill>
            <p:spPr>
              <a:xfrm>
                <a:off x="8346960" y="5791320"/>
                <a:ext cx="736560" cy="863640"/>
              </a:xfrm>
              <a:prstGeom prst="rect">
                <a:avLst/>
              </a:prstGeom>
              <a:ln w="0">
                <a:noFill/>
              </a:ln>
            </p:spPr>
          </p:pic>
          <p:pic>
            <p:nvPicPr>
              <p:cNvPr id="123" name="EPHRAIM%20KATZIR" descr=""/>
              <p:cNvPicPr/>
              <p:nvPr/>
            </p:nvPicPr>
            <p:blipFill>
              <a:blip r:embed="rId28"/>
              <a:stretch/>
            </p:blipFill>
            <p:spPr>
              <a:xfrm>
                <a:off x="9108720" y="5791320"/>
                <a:ext cx="736560" cy="863640"/>
              </a:xfrm>
              <a:prstGeom prst="rect">
                <a:avLst/>
              </a:prstGeom>
              <a:ln w="0">
                <a:noFill/>
              </a:ln>
            </p:spPr>
          </p:pic>
        </p:grpSp>
        <p:pic>
          <p:nvPicPr>
            <p:cNvPr id="124" name="Israel%20Shahak" descr=""/>
            <p:cNvPicPr/>
            <p:nvPr/>
          </p:nvPicPr>
          <p:blipFill>
            <a:blip r:embed="rId29"/>
            <a:stretch/>
          </p:blipFill>
          <p:spPr>
            <a:xfrm>
              <a:off x="6352920" y="3657960"/>
              <a:ext cx="1359000" cy="1828800"/>
            </a:xfrm>
            <a:prstGeom prst="rect">
              <a:avLst/>
            </a:prstGeom>
            <a:ln w="0">
              <a:noFill/>
            </a:ln>
          </p:spPr>
        </p:pic>
        <p:pic>
          <p:nvPicPr>
            <p:cNvPr id="125" name="Martin%20Buber" descr=""/>
            <p:cNvPicPr/>
            <p:nvPr/>
          </p:nvPicPr>
          <p:blipFill>
            <a:blip r:embed="rId30"/>
            <a:stretch/>
          </p:blipFill>
          <p:spPr>
            <a:xfrm>
              <a:off x="2987280" y="365796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838080" y="2590920"/>
            <a:ext cx="716292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ie zionistische Kolonisierung muss entweder beendet oder gegen den Willen der einheimischen Bevölkerung ausgeführt werden. Diese Kolonisierung kann  deshalb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nur fortgeführt werden und Fortschritte machen, wenn sie unter dem Schutz einer von der einheimischen Bevölkerung unabhängigen Macht steht – eine eiserne Mauer, die so positioniert ist, dass sie Druck der einheimischen Bevölkerung widersteht.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Dies ist unsere Politik gegenüber den Arabern. </a:t>
            </a:r>
            <a:endParaRPr b="0" lang="en-US" sz="2400" spc="-1" strike="noStrike">
              <a:solidFill>
                <a:srgbClr val="ffffcc"/>
              </a:solidFill>
              <a:latin typeface="Times New Roman"/>
            </a:endParaRPr>
          </a:p>
        </p:txBody>
      </p:sp>
      <p:sp>
        <p:nvSpPr>
          <p:cNvPr id="147" name=""/>
          <p:cNvSpPr/>
          <p:nvPr/>
        </p:nvSpPr>
        <p:spPr>
          <a:xfrm>
            <a:off x="4191120" y="624852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448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 </a:t>
            </a:r>
            <a:r>
              <a:rPr b="1" i="1" lang="de-DE" sz="2000" spc="-1" strike="noStrike">
                <a:solidFill>
                  <a:srgbClr val="ffffcc"/>
                </a:solidFill>
                <a:latin typeface="Times New Roman"/>
              </a:rPr>
              <a:t>Eine freiwillige Versöhnung mit den Arabern kommt nicht in Frage – weder jetzt  noch in der Zukunft. Wenn man ein Land kolonisieren will, in dem schon ein anderes Volk lebt, muss man um seinetwillen eine Garnison aufbauen. Oder gebt die Kolonisierung auf; denn ohne bewaffnete Kräfte, die  jeden Versuch unmöglich machen, diese Kolonisierung zu zerstören oder zu verhindern. ??? Kolonisierung is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unmöglich, sie ist nicht schwierig, nicht gefährlich aber unmöglich.       Zionismus ist ein Kolonisationsabenteuer und deshalb steht oder fällt er mit der Frage bewaffneter Kräfte. Es ist wichtig, hebräisch zu sprechen, aber leider ist es noch wichtiger, schießen zu können. Sonst ist die Sache mit der Kolonisierung für mich  erledigt. </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25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Da gibt es einige, die glauben, dass die nicht-jüdische Bevölkerung, selbst mit einem hohen Prozentsatz, innerhalb unserer Grenzen  besser unter unsrer Aufsicht ist. Andere glauben das Gegenteil: es sei einfacher die Aktivitäten  eines Nachbarn zu überwachen als die eines Untermieters. Ich neige eher zur letzteren Ansicht und habe ein zusätzliches Argument: um den Charakter eines Staates zu erhalten, der in Zukunft jüdisch ist, darf die Minorität nicht mehr als 15% ausmachen. - Ich hatte diese fundamentale Position schon 1940 erreicht und dies in mein Tagebuch eingetragen . </a:t>
            </a:r>
            <a:endParaRPr b="0" lang="en-US" sz="2000" spc="-1" strike="noStrike">
              <a:solidFill>
                <a:srgbClr val="ffffcc"/>
              </a:solidFill>
              <a:latin typeface="Times New Roman"/>
            </a:endParaRPr>
          </a:p>
        </p:txBody>
      </p:sp>
      <p:sp>
        <p:nvSpPr>
          <p:cNvPr id="153" name=""/>
          <p:cNvSpPr/>
          <p:nvPr/>
        </p:nvSpPr>
        <p:spPr>
          <a:xfrm>
            <a:off x="4419720" y="5257800"/>
            <a:ext cx="41907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Jüdische Dörfer nahmen den Platz der ehemals arabischen ein. Ihnen werden noch nicht einmal die Namen der arabischen Dörfer bekannt sein. Das ist auch richtig so, denn diese Landkartenvariante existiert nicht mehr. Aber nicht nur die Landkarte, sondern auch die arabischen Dörfer sind verschwunden. Aus Mahalul entstand Nahalal, Gibta musste Gevat Platz machen, Haneifs wich Sarid .. es gibt keinen einzigen Ort in diesem Land, dessen Bewohner nicht arabisch ware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8954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1899 schrieb Davis Triesch an Herzl: Ich würde Ihnen vorschlagen, noch bei Zeiten nach „Groß-Palästina“ zu kommen, bevor es zu spät ist. Das Programm von Basel muss die Worte „Groß-Palästina“ oder „Palästina und seine benachbarten Länder“ enthalten, sonst ist es Unsinn. Sie können nicht die Millionen Juden in einem Land von 25 000 qkm unterbringen.“ </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gegenwärtige Karte Palästinas wurde vom britischen Mandat gezeichnet. Das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israelische Volk hat eine andere Karte, für die unsere Jugend und unsere Erwach-senen  kämpfen werden, um sie zu erfüllen – vom Nil bis zum Euphrat.“ </a:t>
            </a:r>
            <a:endParaRPr b="0" lang="en-US" sz="3200" spc="-1" strike="noStrike">
              <a:solidFill>
                <a:srgbClr val="ffffcc"/>
              </a:solidFill>
              <a:latin typeface="Times New Roman"/>
            </a:endParaRPr>
          </a:p>
        </p:txBody>
      </p:sp>
      <p:sp>
        <p:nvSpPr>
          <p:cNvPr id="159" name=""/>
          <p:cNvSpPr/>
          <p:nvPr/>
        </p:nvSpPr>
        <p:spPr>
          <a:xfrm>
            <a:off x="6098400" y="57150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Es liegt auf den Schultern der Leute, sich auf den Krieg vorzubereiten – aber es liegt auf der israelischen Armee, den Kampf durchzuführen mit dem äußersten Ziel, das israelische Empire zu errichten.“ </a:t>
            </a:r>
            <a:endParaRPr b="0" lang="en-US" sz="3200" spc="-1" strike="noStrike">
              <a:solidFill>
                <a:srgbClr val="ffffcc"/>
              </a:solidFill>
              <a:latin typeface="Times New Roman"/>
            </a:endParaRPr>
          </a:p>
        </p:txBody>
      </p:sp>
      <p:sp>
        <p:nvSpPr>
          <p:cNvPr id="162" name=""/>
          <p:cNvSpPr/>
          <p:nvPr/>
        </p:nvSpPr>
        <p:spPr>
          <a:xfrm>
            <a:off x="4648320" y="563868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ie einzige Lösung heißt Eretz Israel“ oder wenigstens das westliche Eretz Israel: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lles was westlich des Jordan liegt – ohne Araber. Da gibt es keinen Kompromiss in diesem Punkt … wir dürfen kein einziges Dorf, keinen einzigen Stamm übrig lassen. </a:t>
            </a:r>
            <a:endParaRPr b="0" lang="en-US" sz="2800" spc="-1" strike="noStrike">
              <a:solidFill>
                <a:srgbClr val="ffffcc"/>
              </a:solidFill>
              <a:latin typeface="Times New Roman"/>
            </a:endParaRPr>
          </a:p>
        </p:txBody>
      </p:sp>
      <p:sp>
        <p:nvSpPr>
          <p:cNvPr id="165" name=""/>
          <p:cNvSpPr/>
          <p:nvPr/>
        </p:nvSpPr>
        <p:spPr>
          <a:xfrm>
            <a:off x="4191120" y="5257800"/>
            <a:ext cx="41907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Unter uns muss klar sein, dass es keinen Platz für beide Völker in diesem Lande gibt. Wir werden unser Ziel nicht erreichen, wenn die Araber in diesem kleinen Land bleiben. Es gibt keinen andern Weg, als sie aus dem Land zu vertreiben.</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590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s tun, um sicher zu gehen, dass sie (Palästinenser) nie wieder  in ihre Häuser zurückkehren, versicherte Ben Gurion gegenüber seinen zionistischen Kollegen. „Die Alten werden sterben, und die Jungen werden es vergessen.“ </a:t>
            </a:r>
            <a:endParaRPr b="0" lang="en-US" sz="3200" spc="-1" strike="noStrike">
              <a:solidFill>
                <a:srgbClr val="ffffcc"/>
              </a:solidFill>
              <a:latin typeface="Times New Roman"/>
            </a:endParaRPr>
          </a:p>
        </p:txBody>
      </p:sp>
      <p:sp>
        <p:nvSpPr>
          <p:cNvPr id="169" name=""/>
          <p:cNvSpPr/>
          <p:nvPr/>
        </p:nvSpPr>
        <p:spPr>
          <a:xfrm>
            <a:off x="4419720" y="563868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14600"/>
            <a:ext cx="72388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 jüdischen Gemeinschaften in Palästina oder die Rechte und den politischen Status der Juden on andern Ländern in Frage stellen könnte.“</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7" name=""/>
          <p:cNvSpPr/>
          <p:nvPr/>
        </p:nvSpPr>
        <p:spPr>
          <a:xfrm>
            <a:off x="4114800" y="586728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ffcc66"/>
                </a:solidFill>
                <a:latin typeface="Arial"/>
              </a:rPr>
              <a:t>Balfour-Erklärung , 2. November 1917 </a:t>
            </a:r>
            <a:r>
              <a:rPr b="0" i="1" lang="en-US" sz="1600" spc="-1" strike="noStrike">
                <a:solidFill>
                  <a:srgbClr val="ffcc66"/>
                </a:solidFill>
                <a:latin typeface="Arial"/>
              </a:rPr>
              <a:t>an Baron Rothchild</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Einer der  sich am längsten gehaltenen und irreführendsten Slogans des Zionismus war von Zangwill, der ihn vor fast 110 Jahren geprägt hatte: Palästina war „Ein Land ohne Volk für ein Volk ohne Lan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Nachdem Achad HaAm, der hebräische Essaist 1891 Palästina besucht hatte schreib er: „Im Ausland glaubten wir, dass Israel fast leer sei, dass in Palästina nichts wachsen würde und dass jeder, der hier Land zu kaufen wünscht, hierher kommen und kaufen kann, was sein Herz begehrt. In Wirklichkeit sieht die Situation ganz anders aus. Es ist schwierig im ganzen Land kultivierbares Land zu finden, das nicht schon kultiviert is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590920"/>
            <a:ext cx="7848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cc66"/>
                </a:solidFill>
                <a:latin typeface="Arial"/>
              </a:rPr>
              <a:t>„</a:t>
            </a:r>
            <a:r>
              <a:rPr b="0" i="1" lang="de-DE" sz="2400" spc="-1" strike="noStrike">
                <a:solidFill>
                  <a:srgbClr val="ffcc66"/>
                </a:solidFill>
                <a:latin typeface="Arial"/>
              </a:rPr>
              <a:t>Wie können wir besetzte Gebiete zurückgeben. Da gibt es keinem, dem wir dies zurückgeben können. So etwas wie Palästinenser gibt es nicht“ </a:t>
            </a:r>
            <a:endParaRPr b="0" lang="en-US" sz="2400" spc="-1" strike="noStrike">
              <a:solidFill>
                <a:srgbClr val="ffffcc"/>
              </a:solidFill>
              <a:latin typeface="Times New Roman"/>
            </a:endParaRPr>
          </a:p>
        </p:txBody>
      </p:sp>
      <p:sp>
        <p:nvSpPr>
          <p:cNvPr id="173" name=""/>
          <p:cNvSpPr/>
          <p:nvPr/>
        </p:nvSpPr>
        <p:spPr>
          <a:xfrm>
            <a:off x="838080" y="4038480"/>
            <a:ext cx="784872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Wenn die Leute sich an die große Zahl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a:t>
            </a:r>
            <a:endParaRPr b="0" lang="en-US" sz="20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4480" y="35812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668400" y="61722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 </a:t>
            </a:r>
            <a:r>
              <a:rPr b="1" i="1" lang="de-DE" sz="2400" spc="-1" strike="noStrike">
                <a:solidFill>
                  <a:srgbClr val="ffffcc"/>
                </a:solidFill>
                <a:latin typeface="Times New Roman"/>
              </a:rPr>
              <a:t>Wenn die Leute sich an die große Zahl ( ca. 750 000 Flüchtlinge)  gewöhnen und wir  womöglich  gezwungen werden, die Flüchtlinge zurückzunehmen, wird es für uns schwierig werden, wenn wir mit Horden von Anspruchsberechtigten konfrontiert sein werden, die Welt davon zu überzeugen, dass nicht alle früher auf israelischen Gebiet gelebt haben. Es wird auf jeden Fall wünschenswert sein, die Zahlen zu verkleinern …</a:t>
            </a:r>
            <a:endParaRPr b="0" lang="en-US" sz="2400" spc="-1" strike="noStrike">
              <a:solidFill>
                <a:srgbClr val="ffffcc"/>
              </a:solidFill>
              <a:latin typeface="Times New Roman"/>
            </a:endParaRPr>
          </a:p>
        </p:txBody>
      </p:sp>
      <p:sp>
        <p:nvSpPr>
          <p:cNvPr id="178" name=""/>
          <p:cNvSpPr/>
          <p:nvPr/>
        </p:nvSpPr>
        <p:spPr>
          <a:xfrm>
            <a:off x="3048120" y="5638680"/>
            <a:ext cx="5410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ffcc66"/>
                </a:solidFill>
                <a:latin typeface="Arial"/>
              </a:rPr>
              <a:t>Offizieller des isr. Außenministeriums  in einem Brief an Walter Eytan. </a:t>
            </a:r>
            <a:r>
              <a:rPr b="1" i="1" lang="en-GB" sz="1600" spc="-1" strike="noStrike">
                <a:solidFill>
                  <a:srgbClr val="ffcc66"/>
                </a:solidFill>
                <a:latin typeface="Arial"/>
              </a:rPr>
              <a:t>Bei Benny Morris, The Birth of  the Pal. </a:t>
            </a:r>
            <a:r>
              <a:rPr b="1" i="1" lang="de-DE" sz="1600" spc="-1" strike="noStrike">
                <a:solidFill>
                  <a:srgbClr val="ffcc66"/>
                </a:solidFill>
                <a:latin typeface="Arial"/>
              </a:rPr>
              <a:t>Refugee Problem,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Es ist die Pflicht der israelischen Führer der isr. Öffentlichkeit klar und mutig einige Fakten erklären, die mit der Zeit vergessen worden sind. Das erste: es gibt keinen Zionismus, Kolonisierung oder einen jüdischen Staat ohne Vertreibung der Araber und die Enteignung ihres Lande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141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200" spc="-1" strike="noStrike">
                <a:solidFill>
                  <a:srgbClr val="ffffcc"/>
                </a:solidFill>
                <a:latin typeface="Times New Roman"/>
              </a:rPr>
              <a:t>„</a:t>
            </a:r>
            <a:r>
              <a:rPr b="1" i="1" lang="de-DE" sz="2200" spc="-1" strike="noStrike">
                <a:solidFill>
                  <a:srgbClr val="ffffcc"/>
                </a:solidFill>
                <a:latin typeface="Times New Roman"/>
              </a:rPr>
              <a:t>Wir sollten uns nun auf die Offensive vorbereiten. Unser Ziel ist es, den Libanon zu zerschmettern und Transjordanien und Syrien. Der schwächste Punkt ist der Libanon, denn das muslimische Regime ist künstlich und es wird für uns einfach sein, es zu unterminieren. Wir werden dort einen christlichen Staat  errichten und dann werden wir die arabische Legion zerschmettern, Transjordanien eliminieren. Syrien wird fallen. Wir werden dann weiter bombardieren und weiter gehen, Port Said einnehmen, Alexandria und den Sinai.“</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82" name=""/>
          <p:cNvSpPr/>
          <p:nvPr/>
        </p:nvSpPr>
        <p:spPr>
          <a:xfrm>
            <a:off x="3809880" y="579132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743200"/>
            <a:ext cx="769608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Ein christlicher Staat sollte ( im Libanon) errichtet werden mit der südlichen Grenze am Ufer des Litsani. Wir werden ein Bündnis mit ihm schließen. Dann werden wir die Arabische Legion aufreiben, Amman bombardieren, wir werden auch Transjordanien eliminieren; Syrien wird an uns fallen. Wenn Ägypten weiter gegen uns zu kämpfen wagt, werden wir Port Said, Alexandira und Kairo bombardieren und auf diese Weise werden wir den Krieg beenden und die Rechnung unserer Urväter mit Ägypten, Assyrien und Aram begleichen. </a:t>
            </a:r>
            <a:endParaRPr b="0" lang="en-US" sz="2400" spc="-1" strike="noStrike">
              <a:solidFill>
                <a:srgbClr val="ffffcc"/>
              </a:solidFill>
              <a:latin typeface="Times New Roman"/>
            </a:endParaRPr>
          </a:p>
        </p:txBody>
      </p:sp>
      <p:sp>
        <p:nvSpPr>
          <p:cNvPr id="185" name=""/>
          <p:cNvSpPr/>
          <p:nvPr/>
        </p:nvSpPr>
        <p:spPr>
          <a:xfrm>
            <a:off x="2666880" y="152388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Israel hätte die Unterdrückung  der Demonstrationen in China ausnützen sollen, als die Aufmerksamkeit der Welt sich auf dieses Land konzentrierte, um eine Massenver-treibung der Palästinenser aus den besetzten Gebieten auszuführen“</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88" name=""/>
          <p:cNvSpPr/>
          <p:nvPr/>
        </p:nvSpPr>
        <p:spPr>
          <a:xfrm>
            <a:off x="3962520" y="5257800"/>
            <a:ext cx="4952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Jeder solle sich bewegen, rennen und so viele Hügel grabschen, wie er kann, um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die Siedlungen zu vergrößern; denn alles was wir jetzt nehmen, können wir behalten und alles, was wir nicht grabschen, wird ihnen gehören.“ </a:t>
            </a:r>
            <a:endParaRPr b="0" lang="en-US" sz="3200" spc="-1" strike="noStrike">
              <a:solidFill>
                <a:srgbClr val="ffffcc"/>
              </a:solidFill>
              <a:latin typeface="Times New Roman"/>
            </a:endParaRPr>
          </a:p>
        </p:txBody>
      </p:sp>
      <p:sp>
        <p:nvSpPr>
          <p:cNvPr id="191" name=""/>
          <p:cNvSpPr/>
          <p:nvPr/>
        </p:nvSpPr>
        <p:spPr>
          <a:xfrm>
            <a:off x="4343400" y="54100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Hat man je gesehen, dass ein Volk sein Land  freiwillig aufgibt? In derselben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Weise werden auch die Araber Palästinas nicht ohne Gewalt ihre Herrschaf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cc"/>
                </a:solidFill>
                <a:latin typeface="Times New Roman"/>
              </a:rPr>
              <a:t>aufgeben.</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286000"/>
            <a:ext cx="7315200" cy="3751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Wenn ich ein arabischer Führer wäre,  würde ich niemals ein Abkommen mit Israel unterzeichnen. Es ist normal; wir haben ihnen das Land weggenommen. Es stimmt zwar: Gott hat es uns versprochen. Aber wieso sollte sie das interessieren?       </a:t>
            </a:r>
            <a:endParaRPr b="0" lang="en-US" sz="24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Unser Gott ist nicht der Ihrige. Da gab es den Antisemitismus, die Nazis, Hitler, Auschwitz. Aber war das ihre Schuld? Sie sahen nur eines: wir sind gekommen und haben ihr Land gestohlen. Warum sollen sie das akzeptieren? </a:t>
            </a:r>
            <a:endParaRPr b="0" lang="en-US" sz="2400" spc="-1" strike="noStrike">
              <a:solidFill>
                <a:srgbClr val="ffffcc"/>
              </a:solidFill>
              <a:latin typeface="Times New Roman"/>
            </a:endParaRPr>
          </a:p>
        </p:txBody>
      </p:sp>
      <p:sp>
        <p:nvSpPr>
          <p:cNvPr id="197" name=""/>
          <p:cNvSpPr/>
          <p:nvPr/>
        </p:nvSpPr>
        <p:spPr>
          <a:xfrm>
            <a:off x="3886200" y="60199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762120" y="259092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Die verstorbenen Führer der zionistischen Bewegung ließen uns eine klare Botschaft zurück: Eretz Israel für die zukünftigen Generationen einer Masseneinwanderung und für das ganze jüdische Volk, das in diesem Lande gesammelt wird, vom Meer bis zum Jordanfluss zu halten. </a:t>
            </a:r>
            <a:endParaRPr b="0" lang="en-US" sz="2800" spc="-1" strike="noStrike">
              <a:solidFill>
                <a:srgbClr val="ffffcc"/>
              </a:solidFill>
              <a:latin typeface="Times New Roman"/>
            </a:endParaRPr>
          </a:p>
        </p:txBody>
      </p:sp>
      <p:sp>
        <p:nvSpPr>
          <p:cNvPr id="129" name=""/>
          <p:cNvSpPr/>
          <p:nvPr/>
        </p:nvSpPr>
        <p:spPr>
          <a:xfrm>
            <a:off x="2895480" y="5638680"/>
            <a:ext cx="5334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5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533520" y="2835360"/>
            <a:ext cx="76960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ollten wie  Heuschrek-ken zermalmt werden …. ihre Köpfe an Felsen und Mauern zerdrückt wer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81952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as Land besiedelt haben, werden alle Araber etwas dagegen tun. Sie werden wie besoffene Küchenschaben in einer Flasche herumras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510552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enn wir denken, dass anstelle von 200 palästinensischen Todesfällen 2000 Tote dem Kampf mit einem Schlag  ein Ende setzen würden, würden wir viel mehr Gewalt anwenden…“ </a:t>
            </a:r>
            <a:endParaRPr b="0" lang="en-US" sz="3200" spc="-1" strike="noStrike">
              <a:solidFill>
                <a:srgbClr val="ffffcc"/>
              </a:solidFill>
              <a:latin typeface="Times New Roman"/>
            </a:endParaRPr>
          </a:p>
        </p:txBody>
      </p:sp>
      <p:sp>
        <p:nvSpPr>
          <p:cNvPr id="206" name=""/>
          <p:cNvSpPr/>
          <p:nvPr/>
        </p:nvSpPr>
        <p:spPr>
          <a:xfrm>
            <a:off x="5334120" y="533412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These, dass die Gefahr des Genozids im Juni 1967 über uns gehangen habe und Israel für sein physisches Überleben gekämpft habe, ist reiner Bluff. Sie wurde erst nach dem Krieg erfund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erklären öffentlich, dass die Araber keine Rechte haben, auf nur einem qm Land von Eretz Israel zu siedeln. …Gewalt ist das einzige, was sie tun und verstehen. Wir sollten die äußerste Gewalt anwenden, bis die Palästinenser auf allen vieren zu uns gekrochen kommen“. </a:t>
            </a:r>
            <a:endParaRPr b="0" lang="en-US" sz="2800" spc="-1" strike="noStrike">
              <a:solidFill>
                <a:srgbClr val="ffffcc"/>
              </a:solidFill>
              <a:latin typeface="Times New Roman"/>
            </a:endParaRPr>
          </a:p>
        </p:txBody>
      </p:sp>
      <p:sp>
        <p:nvSpPr>
          <p:cNvPr id="211" name=""/>
          <p:cNvSpPr/>
          <p:nvPr/>
        </p:nvSpPr>
        <p:spPr>
          <a:xfrm>
            <a:off x="4038480" y="548640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Da besteht eine große Kluft zwischen uns, den Juden, und unsern Feinden  - nicht nur in den Fähigkeiten, sondern auch, was die Moral, die Kultur, die Heiligkeit des Lebens und was das Gewissen betrifft. Sie sind hier zwar unsere Nachbarn. Aber es scheint als, wären sie ein paar hundert Meter weit entfernt. Da gibt es Leute, die nicht zu unserm Kontinent, in unsere Welt gehören, sondern tatsächlich zu einer anderen Galaxie“.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e Krokodile, je mehr Fleisch man ihnen gibt, um so mehr wollen si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Die Palästinenser sind wilde Tiere, die auf zwei Bein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066680" y="3429000"/>
            <a:ext cx="6705720" cy="1678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400" spc="-1" strike="noStrike">
                <a:solidFill>
                  <a:srgbClr val="ffffcc"/>
                </a:solidFill>
                <a:latin typeface="Times New Roman"/>
              </a:rPr>
              <a:t>„</a:t>
            </a:r>
            <a:r>
              <a:rPr b="1" i="1" lang="de-DE" sz="2400" spc="-1" strike="noStrike">
                <a:solidFill>
                  <a:srgbClr val="ffffcc"/>
                </a:solidFill>
                <a:latin typeface="Times New Roman"/>
              </a:rPr>
              <a:t>Jüdisches Blut und das Blut eines Nicht-Juden sind nicht dasselbe“. Rabbi Yitzhak Ginsberg folgerte daraus, dass Töten kein Mord sei, wenn das Opfer ein einheimischer sei.</a:t>
            </a:r>
            <a:r>
              <a:rPr b="1" i="1" lang="de-DE"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223" name=""/>
          <p:cNvSpPr/>
          <p:nvPr/>
        </p:nvSpPr>
        <p:spPr>
          <a:xfrm>
            <a:off x="4114800" y="525780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Selbst wenn die UN-Vollversammlung mit 121 zu 1 Stimme zugunsten von Israel stimmen würde, dass es sich zur Waffenstillstandlinie (1967) zurückziehen solle. Israel würde sich nicht dieser Entscheidung anschließen“. </a:t>
            </a:r>
            <a:endParaRPr b="0" lang="en-US" sz="2800" spc="-1" strike="noStrike">
              <a:solidFill>
                <a:srgbClr val="ffffcc"/>
              </a:solidFill>
              <a:latin typeface="Times New Roman"/>
            </a:endParaRPr>
          </a:p>
        </p:txBody>
      </p:sp>
      <p:sp>
        <p:nvSpPr>
          <p:cNvPr id="225" name=""/>
          <p:cNvSpPr/>
          <p:nvPr/>
        </p:nvSpPr>
        <p:spPr>
          <a:xfrm>
            <a:off x="4038480" y="525780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die Araber vertreiben und ihren Platz einnehmen“ </a:t>
            </a:r>
            <a:endParaRPr b="0" lang="en-US" sz="3200" spc="-1" strike="noStrike">
              <a:solidFill>
                <a:srgbClr val="ffffcc"/>
              </a:solidFill>
              <a:latin typeface="Times New Roman"/>
            </a:endParaRPr>
          </a:p>
        </p:txBody>
      </p:sp>
      <p:sp>
        <p:nvSpPr>
          <p:cNvPr id="132" name=""/>
          <p:cNvSpPr/>
          <p:nvPr/>
        </p:nvSpPr>
        <p:spPr>
          <a:xfrm>
            <a:off x="3657600" y="44956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Jedes Mal, wenn wir etwas tun, sagen Sie, ein Amerikaner würde dies und jenes tun … ich will ihnen etwas klar sagen: „Beunruhigen sie sich nicht über den amerikanischen Druck auf Israel. Wir, das jüdische Volk, kontrollieren Amerika und die Amerikaner wissen es“ </a:t>
            </a:r>
            <a:endParaRPr b="0" lang="en-US" sz="2800" spc="-1" strike="noStrike">
              <a:solidFill>
                <a:srgbClr val="ffffcc"/>
              </a:solidFill>
              <a:latin typeface="Times New Roman"/>
            </a:endParaRPr>
          </a:p>
        </p:txBody>
      </p:sp>
      <p:sp>
        <p:nvSpPr>
          <p:cNvPr id="228" name=""/>
          <p:cNvSpPr/>
          <p:nvPr/>
        </p:nvSpPr>
        <p:spPr>
          <a:xfrm>
            <a:off x="4648320" y="5486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 </a:t>
            </a:r>
            <a:r>
              <a:rPr b="1" i="1" lang="de-DE" sz="2800" spc="-1" strike="noStrike">
                <a:solidFill>
                  <a:srgbClr val="ffffcc"/>
                </a:solidFill>
                <a:latin typeface="Times New Roman"/>
              </a:rPr>
              <a:t>Das beunruhigendste politische Phänomen unserer Zeit ist  die kritische Lage in dem neu geschaffenen Staat Israel von der Herut-Partei (Freiheitspartei), die in ihrer Organisation, Methode, politischer Philosophie und sozialem Anspruch sehr verwandt zu faschistischen Parteien sei.“ </a:t>
            </a:r>
            <a:endParaRPr b="0" lang="en-US" sz="2800" spc="-1" strike="noStrike">
              <a:solidFill>
                <a:srgbClr val="ffffcc"/>
              </a:solidFill>
              <a:latin typeface="Times New Roman"/>
            </a:endParaRPr>
          </a:p>
        </p:txBody>
      </p:sp>
      <p:sp>
        <p:nvSpPr>
          <p:cNvPr id="231" name=""/>
          <p:cNvSpPr/>
          <p:nvPr/>
        </p:nvSpPr>
        <p:spPr>
          <a:xfrm>
            <a:off x="3200400" y="554364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Wir werden uns der Realität gegenüber sehen, dass Israel weder unschuldig noch ( für Juden)erlösend ist. Wir als Juden haben genau das verursacht, was wir historisch erlitten haben: eine Flüchtlingsbevölkerung in der Diaspora.“ </a:t>
            </a:r>
            <a:endParaRPr b="0" lang="en-US" sz="2800" spc="-1" strike="noStrike">
              <a:solidFill>
                <a:srgbClr val="ffffcc"/>
              </a:solidFill>
              <a:latin typeface="Times New Roman"/>
            </a:endParaRPr>
          </a:p>
        </p:txBody>
      </p:sp>
      <p:sp>
        <p:nvSpPr>
          <p:cNvPr id="234" name=""/>
          <p:cNvSpPr/>
          <p:nvPr/>
        </p:nvSpPr>
        <p:spPr>
          <a:xfrm>
            <a:off x="4267080" y="518148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Als wir - die Nachfolger der jüdischen Propheten  - nach Palästina zurückkehrten …wollte die Mehrheit des jüdischen Volkes eher von Hitler lernen als von uns. </a:t>
            </a:r>
            <a:endParaRPr b="0" lang="en-US" sz="3200" spc="-1" strike="noStrike">
              <a:solidFill>
                <a:srgbClr val="ffffcc"/>
              </a:solidFill>
              <a:latin typeface="Times New Roman"/>
            </a:endParaRPr>
          </a:p>
        </p:txBody>
      </p:sp>
      <p:sp>
        <p:nvSpPr>
          <p:cNvPr id="237" name=""/>
          <p:cNvSpPr/>
          <p:nvPr/>
        </p:nvSpPr>
        <p:spPr>
          <a:xfrm>
            <a:off x="4191120" y="541008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666880"/>
            <a:ext cx="8305920" cy="2594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ffffcc"/>
                </a:solidFill>
                <a:latin typeface="Times New Roman"/>
              </a:rPr>
              <a:t>„</a:t>
            </a:r>
            <a:r>
              <a:rPr b="1" i="1" lang="de-DE" sz="2000" spc="-1" strike="noStrike">
                <a:solidFill>
                  <a:srgbClr val="ffffcc"/>
                </a:solidFill>
                <a:latin typeface="Times New Roman"/>
              </a:rPr>
              <a:t>Hitlers legale Macht gründete sich auf das Er-mächtigungsgesetz, das ganz legal vom Reichstag verabschiedet wurde und das dem Führer und seinen Vertretern in klarer Sprache erlaubte, das zu sein, was sie wollten: in  juristischer Sprache: Verfügungen herausgeben, die die Kraft des Gesetzes haben: Genau dieselbe Art von Gesetz wurde unmittelbar nach der 1967-Eroberung ( der palästinensischen Gebiete)  von der Knesset verabschiedet, um  dem israelischen Gouverneur und seinen Vertretern die Macht Hitlers zu geben, die sie in hitlerischer Manier anwendeten</a:t>
            </a:r>
            <a:r>
              <a:rPr b="1" i="1" lang="de-DE"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240" name=""/>
          <p:cNvSpPr/>
          <p:nvPr/>
        </p:nvSpPr>
        <p:spPr>
          <a:xfrm>
            <a:off x="3124080" y="5257800"/>
            <a:ext cx="556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609480" y="2789280"/>
            <a:ext cx="76964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Der Anspruch der Juden auf das Land Israel kann nicht ein realistischer politischer Anspruch sein. Wenn alle Völker plötzlich Anspruch auf Länder erheben wollten, in denen ihre Vorfahren vor 2000 Jahren lebten, dann wäre die Welt ein Irrenhaus.“ </a:t>
            </a:r>
            <a:endParaRPr b="0" lang="en-US" sz="2800" spc="-1" strike="noStrike">
              <a:solidFill>
                <a:srgbClr val="ffffcc"/>
              </a:solidFill>
              <a:latin typeface="Times New Roman"/>
            </a:endParaRPr>
          </a:p>
        </p:txBody>
      </p:sp>
      <p:sp>
        <p:nvSpPr>
          <p:cNvPr id="243" name=""/>
          <p:cNvSpPr/>
          <p:nvPr/>
        </p:nvSpPr>
        <p:spPr>
          <a:xfrm>
            <a:off x="3581280" y="5334120"/>
            <a:ext cx="472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cc"/>
                </a:solidFill>
                <a:latin typeface="Times New Roman"/>
              </a:rPr>
              <a:t>1</a:t>
            </a:r>
            <a:r>
              <a:rPr b="0" lang="de-DE" sz="1600" spc="-1" strike="noStrike">
                <a:solidFill>
                  <a:srgbClr val="ffcc66"/>
                </a:solidFill>
                <a:latin typeface="Arial"/>
              </a:rPr>
              <a:t>Erich Fromm,  Jewish Letter vom 29.2.59 </a:t>
            </a:r>
            <a:r>
              <a:rPr b="0" lang="de-DE" sz="2400" spc="-1" strike="noStrike">
                <a:solidFill>
                  <a:srgbClr val="ffcc66"/>
                </a:solidFill>
                <a:latin typeface="Times New Roman"/>
              </a:rPr>
              <a:t> </a:t>
            </a:r>
            <a:endParaRPr b="0" lang="en-US" sz="24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90720" y="2971800"/>
            <a:ext cx="7315200" cy="3657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a:t>
            </a:r>
            <a:r>
              <a:rPr b="1" i="1" lang="de-DE" sz="2600" spc="-1" strike="noStrike">
                <a:solidFill>
                  <a:srgbClr val="ffffcc"/>
                </a:solidFill>
                <a:latin typeface="Times New Roman"/>
              </a:rPr>
              <a:t>Die arme Bevölkerung trachten wir unbemerkt über die Grenze zu schaffen, indem wir ihr in den Durchzugsländern Arbeit verschaffen, aber in unserm eigenen Lande jegliche Arbeit verweiger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600" spc="-1" strike="noStrike">
                <a:solidFill>
                  <a:srgbClr val="ffffcc"/>
                </a:solidFill>
                <a:latin typeface="Times New Roman"/>
              </a:rPr>
              <a:t>Die besitzende Bevölkerung wird zu uns übergehen. Das Expropriationswerk muss ebenso wie die Fortschaffung der Armen mit Zartheit und Behutsamkeit erfolgen.“</a:t>
            </a:r>
            <a:endParaRPr b="0" lang="en-US" sz="26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
        <p:nvSpPr>
          <p:cNvPr id="135" name=""/>
          <p:cNvSpPr/>
          <p:nvPr/>
        </p:nvSpPr>
        <p:spPr>
          <a:xfrm>
            <a:off x="3581280" y="15238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alle Palästinenser töten, wenn sie sich nicht damit abfinden, hier als  Sklaven  zu leben….“ </a:t>
            </a:r>
            <a:endParaRPr b="0" lang="en-US" sz="3200" spc="-1" strike="noStrike">
              <a:solidFill>
                <a:srgbClr val="ffffcc"/>
              </a:solidFill>
              <a:latin typeface="Times New Roman"/>
            </a:endParaRPr>
          </a:p>
        </p:txBody>
      </p:sp>
      <p:sp>
        <p:nvSpPr>
          <p:cNvPr id="138" name=""/>
          <p:cNvSpPr/>
          <p:nvPr/>
        </p:nvSpPr>
        <p:spPr>
          <a:xfrm>
            <a:off x="3886200" y="48769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ir gingen nach draußen. Ben Gurion begleitete uns.  Allon  wiederholte seine Frage: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a:t>
            </a:r>
            <a:r>
              <a:rPr b="1" i="1" lang="de-DE" sz="2800" spc="-1" strike="noStrike">
                <a:solidFill>
                  <a:srgbClr val="ffffcc"/>
                </a:solidFill>
                <a:latin typeface="Times New Roman"/>
              </a:rPr>
              <a:t>Was sollen wir mit der palästinensischen Bevölkerung tun?“ </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ffcc"/>
                </a:solidFill>
                <a:latin typeface="Times New Roman"/>
              </a:rPr>
              <a:t>Ben Gurion  hob seine Hand mit einer Geste, die bedeutete: </a:t>
            </a:r>
            <a:r>
              <a:rPr b="1" i="1" lang="de-DE" sz="2800" spc="-1" strike="noStrike">
                <a:solidFill>
                  <a:srgbClr val="ff9900"/>
                </a:solidFill>
                <a:latin typeface="Times New Roman"/>
              </a:rPr>
              <a:t>treibt sie alle hinaus!“ </a:t>
            </a:r>
            <a:endParaRPr b="0" lang="en-US" sz="2800" spc="-1" strike="noStrike">
              <a:solidFill>
                <a:srgbClr val="ffffcc"/>
              </a:solidFill>
              <a:latin typeface="Times New Roman"/>
            </a:endParaRPr>
          </a:p>
        </p:txBody>
      </p:sp>
      <p:sp>
        <p:nvSpPr>
          <p:cNvPr id="140" name=""/>
          <p:cNvSpPr/>
          <p:nvPr/>
        </p:nvSpPr>
        <p:spPr>
          <a:xfrm>
            <a:off x="4191120" y="541008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66880"/>
            <a:ext cx="76960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müssen Terror anwenden, Mord, Einschüchterung, Landenteignung und die Verweigerung aller sozialen Dienste, damit Galiläa seine arabische Bevölkerung  los wird. </a:t>
            </a:r>
            <a:endParaRPr b="0" lang="en-US" sz="3200" spc="-1" strike="noStrike">
              <a:solidFill>
                <a:srgbClr val="ffffcc"/>
              </a:solidFill>
              <a:latin typeface="Times New Roman"/>
            </a:endParaRPr>
          </a:p>
        </p:txBody>
      </p:sp>
      <p:sp>
        <p:nvSpPr>
          <p:cNvPr id="143" name=""/>
          <p:cNvSpPr/>
          <p:nvPr/>
        </p:nvSpPr>
        <p:spPr>
          <a:xfrm>
            <a:off x="3962520" y="556272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Rabins Beschreibung der Eroberung von Lydda nach der Erfüllung des Planes Dalet:</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ffffcc"/>
                </a:solidFill>
                <a:latin typeface="Times New Roman"/>
              </a:rPr>
              <a:t>„</a:t>
            </a:r>
            <a:r>
              <a:rPr b="1" i="1" lang="de-DE" sz="3200" spc="-1" strike="noStrike">
                <a:solidFill>
                  <a:srgbClr val="ffffcc"/>
                </a:solidFill>
                <a:latin typeface="Times New Roman"/>
              </a:rPr>
              <a:t>Wir sollen die arabische Bevölkerung  auf eine Gemeinschaft von Holzhackern und Wasserträger reduzieren.“  </a:t>
            </a:r>
            <a:endParaRPr b="0" lang="en-US" sz="3200" spc="-1" strike="noStrike">
              <a:solidFill>
                <a:srgbClr val="ffffcc"/>
              </a:solidFill>
              <a:latin typeface="Times New Roman"/>
            </a:endParaRPr>
          </a:p>
        </p:txBody>
      </p:sp>
      <p:sp>
        <p:nvSpPr>
          <p:cNvPr id="145" name=""/>
          <p:cNvSpPr/>
          <p:nvPr/>
        </p:nvSpPr>
        <p:spPr>
          <a:xfrm>
            <a:off x="4267080" y="579132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 P. Rainer</cp:lastModifiedBy>
  <dcterms:modified xsi:type="dcterms:W3CDTF">2006-11-11T21:50:35Z</dcterms:modified>
  <cp:revision>12</cp:revision>
  <dc:subject/>
  <dc:title>PowerPoint Presentation</dc:title>
</cp:coreProperties>
</file>