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0C7813B-7431-4F2E-A8AF-A13F0669C64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D889-1F72-4C4F-A64A-884C77673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3F55-774F-48BE-AF0E-8BB6D0F46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787E-4FA1-4F35-BDFC-C093A0B98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DC57-B3F9-4CAA-B70B-270AC2D3D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27CB-EE27-4664-8F48-C1A0E715F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2DC6-7FAB-40A4-ACEC-EC74A7F1D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3271-E848-48BA-867A-A7C4B7934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7075-EE43-4AE5-97A0-B966E5615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1B47-7955-438D-AFB7-090355D9B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FABF-EA7E-47C6-8520-8843FC184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9F39-1C95-45CB-8F51-B186EFB1D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E243-18E9-4121-9A46-B15CCE035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1658421-E340-4844-AAFA-BB55B4794DD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106640" y="1598760"/>
            <a:ext cx="688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5400" spc="-1" strike="noStrike">
                <a:solidFill>
                  <a:srgbClr val="ff6600"/>
                </a:solidFill>
                <a:latin typeface="Arial"/>
              </a:rPr>
              <a:t>School in Palestine!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139760" y="5560920"/>
            <a:ext cx="679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The journey starts here in Hebr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680" y="457200"/>
            <a:ext cx="8600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ar-SA" sz="6000" spc="-1" strike="noStrike">
                <a:solidFill>
                  <a:srgbClr val="ac181c"/>
                </a:solidFill>
                <a:latin typeface="Arial"/>
              </a:rPr>
              <a:t>المدرسة في فلسطين</a:t>
            </a:r>
            <a:r>
              <a:rPr b="1" lang="en-GB" sz="6000" spc="-1" strike="noStrike">
                <a:solidFill>
                  <a:srgbClr val="ac181c"/>
                </a:solidFill>
                <a:latin typeface="Arial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90200" y="4952880"/>
            <a:ext cx="567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ar-SA" sz="3600" spc="-1" strike="noStrike">
                <a:solidFill>
                  <a:srgbClr val="43a398"/>
                </a:solidFill>
                <a:latin typeface="Arial"/>
              </a:rPr>
              <a:t>تبدأ الرحلة هنا في المعب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0" y="40644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350880" y="6459480"/>
            <a:ext cx="2216880" cy="398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they got shot at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06480" y="0"/>
            <a:ext cx="152028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ar-SA" sz="2400" spc="-1" strike="noStrike">
                <a:solidFill>
                  <a:srgbClr val="43a398"/>
                </a:solidFill>
                <a:latin typeface="Arial"/>
              </a:rPr>
              <a:t>فيضربوا</a:t>
            </a:r>
            <a:r>
              <a:rPr b="1" lang="en-GB" sz="2400" spc="-1" strike="noStrike">
                <a:solidFill>
                  <a:srgbClr val="43a398"/>
                </a:solidFill>
                <a:latin typeface="Arial"/>
              </a:rPr>
              <a:t>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0" y="40644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3123000" y="6461280"/>
            <a:ext cx="2444040" cy="398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and some arres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893680" y="0"/>
            <a:ext cx="3169440" cy="459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ar-SA" sz="2400" spc="-1" strike="noStrike">
                <a:solidFill>
                  <a:srgbClr val="43a398"/>
                </a:solidFill>
                <a:latin typeface="Arial"/>
              </a:rPr>
              <a:t>ويقبض على بعضهم</a:t>
            </a:r>
            <a:r>
              <a:rPr b="1" lang="en-GB" sz="2400" spc="-1" strike="noStrike">
                <a:solidFill>
                  <a:srgbClr val="43a398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0" y="48276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441800" y="6459480"/>
            <a:ext cx="6371280" cy="398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yet in their eyes you see determination and dign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041200" y="0"/>
            <a:ext cx="536688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ar-SA" sz="2400" spc="-1" strike="noStrike">
                <a:solidFill>
                  <a:srgbClr val="43a398"/>
                </a:solidFill>
                <a:latin typeface="Arial"/>
              </a:rPr>
              <a:t>ويبقى التحدي والكبرياء في عيونه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16747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If you have a heart at all you will pass this on to all your friends and MAYBE someone will realize wh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Palestinians go through everyday!!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897280" y="6399360"/>
            <a:ext cx="281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© LIVE_2_LOVE 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143000" y="30960"/>
            <a:ext cx="6934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ar-SA" sz="2800" spc="-1" strike="noStrike">
                <a:solidFill>
                  <a:srgbClr val="43a398"/>
                </a:solidFill>
                <a:latin typeface="Arial"/>
              </a:rPr>
              <a:t>لو تحركت أي من مشاعرك أرسلها لكل أصدقاء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ar-SA" sz="2800" spc="-1" strike="noStrike">
                <a:solidFill>
                  <a:srgbClr val="43a398"/>
                </a:solidFill>
                <a:latin typeface="Arial"/>
              </a:rPr>
              <a:t>فقد يدرك أحدهم المعاناة اليومية للفلسطينيي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0" y="40644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6486480"/>
            <a:ext cx="9144000" cy="36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Arial"/>
              </a:rPr>
              <a:t>the children starting their day going to school to be faced with a checkpoint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19320" y="-183960"/>
            <a:ext cx="6781680" cy="825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ar-SA" sz="2400" spc="-1" strike="noStrike">
                <a:solidFill>
                  <a:srgbClr val="43a398"/>
                </a:solidFill>
                <a:latin typeface="Arial"/>
              </a:rPr>
              <a:t>عند الذهاب إلى المدرسة يبدأ الأطفال يومهم بمواجهة نقطة التفتيش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0" y="40644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5800" y="6459480"/>
            <a:ext cx="9097560" cy="398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the soldiers prevent them from passing and give them orders to go hom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4640" y="-1440"/>
            <a:ext cx="760104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ar-SA" sz="2400" spc="-1" strike="noStrike">
                <a:solidFill>
                  <a:srgbClr val="43a398"/>
                </a:solidFill>
                <a:latin typeface="Arial"/>
              </a:rPr>
              <a:t>يمنعهم الجنود من المرور ويأمروهم بالعودة للمنز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29560" y="6454800"/>
            <a:ext cx="8181720" cy="398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the children try to challenge the soldiers and pass the checkpoi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3680" y="-1440"/>
            <a:ext cx="75751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ar-SA" sz="2400" spc="-1" strike="noStrike">
                <a:solidFill>
                  <a:srgbClr val="43a398"/>
                </a:solidFill>
                <a:latin typeface="Arial"/>
              </a:rPr>
              <a:t>يحاول الأطفال تحدي الجنود وتجاوز نقطة التفتي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0" y="40644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360440" y="-1440"/>
            <a:ext cx="629964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ar-SA" sz="2400" spc="-1" strike="noStrike">
                <a:solidFill>
                  <a:srgbClr val="43a398"/>
                </a:solidFill>
                <a:latin typeface="Arial"/>
              </a:rPr>
              <a:t>حتى الأصغر سنا يحاولون ولكن دون جدو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359440" y="6459480"/>
            <a:ext cx="4307760" cy="3988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even younger ones try but in va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0" y="40644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-167400" y="-1440"/>
            <a:ext cx="95364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ar-SA" sz="2400" spc="-1" strike="noStrike">
                <a:solidFill>
                  <a:srgbClr val="43a398"/>
                </a:solidFill>
                <a:latin typeface="Arial"/>
              </a:rPr>
              <a:t>وينتهي بهم الأمر بتلقي دروسهم في الشارع عند نقطة التفتي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0840" y="6459480"/>
            <a:ext cx="7928640" cy="398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they end up having their classes in the street by the checkpoi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0" y="35568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575440" y="-1440"/>
            <a:ext cx="365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ar-SA" sz="2400" spc="-1" strike="noStrike">
                <a:solidFill>
                  <a:srgbClr val="43a398"/>
                </a:solidFill>
                <a:latin typeface="Arial"/>
              </a:rPr>
              <a:t>يالها من شجاعة مدهش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892960" y="6459480"/>
            <a:ext cx="2908800" cy="398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what an amazing spir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0" y="35568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2584440" y="6459480"/>
            <a:ext cx="3827520" cy="398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the boys try a little bit harder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848240" y="-1440"/>
            <a:ext cx="541584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ar-SA" sz="2400" spc="-1" strike="noStrike">
                <a:solidFill>
                  <a:srgbClr val="43a398"/>
                </a:solidFill>
                <a:latin typeface="Arial"/>
              </a:rPr>
              <a:t>يحاول الصبية على نحو أشد نوعا ما</a:t>
            </a:r>
            <a:r>
              <a:rPr b="1" lang="en-GB" sz="2400" spc="-1" strike="noStrike">
                <a:solidFill>
                  <a:srgbClr val="43a398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hard Arendt</cp:lastModifiedBy>
  <dcterms:modified xsi:type="dcterms:W3CDTF">2007-12-05T23:40:10Z</dcterms:modified>
  <cp:revision>1</cp:revision>
  <dc:subject/>
  <dc:title>PowerPoint Presentation</dc:title>
</cp:coreProperties>
</file>