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2FF2FA2-9F42-4C1C-8E79-55708671F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174E-332B-4BD9-A78B-BE0C52CA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0288-31F0-432B-99F4-49F0F4AED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3C9-77F2-481E-913A-47C91E4F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879-9A2B-4F90-8E52-C890B358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6F09-1376-4ED5-9E1B-998066FB0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17A-5FB3-48DD-82F2-8CAC20E6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E059-59FD-4353-8E95-CD7FAB51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4F5-C141-4C2A-ADF0-70908868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28A7-AF8B-452C-A737-23A0F214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ABD3-7EFE-46B7-B064-D8DCA119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305-D1CB-43E3-9A58-8EEE1A6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606C-37EC-4117-A43F-A1A7967A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CFA6C51-2116-4C3C-BF91-09DF01E8D7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06640" y="1598760"/>
            <a:ext cx="688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School in Palestine!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39760" y="5560920"/>
            <a:ext cx="67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The journey starts here in Hebr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680" y="457200"/>
            <a:ext cx="860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ac181c"/>
                </a:solidFill>
                <a:latin typeface="Arial"/>
              </a:rPr>
              <a:t>المدرسة في فلسطين</a:t>
            </a:r>
            <a:r>
              <a:rPr b="1" lang="en-GB" sz="6000" spc="-1" strike="noStrike">
                <a:solidFill>
                  <a:srgbClr val="ac181c"/>
                </a:solidFill>
                <a:latin typeface="Arial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90200" y="4952880"/>
            <a:ext cx="567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43a398"/>
                </a:solidFill>
                <a:latin typeface="Arial"/>
              </a:rPr>
              <a:t>تبدأ الرحلة هنا في المعب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350880" y="6459480"/>
            <a:ext cx="2216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got shot a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6480" y="0"/>
            <a:ext cx="15202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فيضربو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123000" y="6461280"/>
            <a:ext cx="24440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nd some arr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3680" y="0"/>
            <a:ext cx="316944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قبض على بعضهم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48276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41800" y="6459480"/>
            <a:ext cx="63712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yet in their eyes you see determination and dig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41200" y="0"/>
            <a:ext cx="536688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بقى التحدي والكبرياء في عيونه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674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If you have a heart at all you will pass this on to all your friends and MAYBE someone will realize w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alestinians go through everyday!!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97280" y="6399360"/>
            <a:ext cx="281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© LIVE_2_LOVE 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43000" y="30960"/>
            <a:ext cx="6934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لو تحركت أي من مشاعرك أرسلها لكل أصدقاء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43a398"/>
                </a:solidFill>
                <a:latin typeface="Arial"/>
              </a:rPr>
              <a:t>فقد يدرك أحدهم المعاناة اليومية للفلسطينيي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6486480"/>
            <a:ext cx="9144000" cy="368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the children starting their day going to school to be faced with a checkpoi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-183960"/>
            <a:ext cx="678168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عند الذهاب إلى المدرسة يبدأ الأطفال يومهم بمواجهة نقطة التفتيش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800" y="6459480"/>
            <a:ext cx="90975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soldiers prevent them from passing and give them orders to go h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4640" y="-1440"/>
            <a:ext cx="7601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منعهم الجنود من المرور ويأمروهم بالعودة للمنز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29560" y="6454800"/>
            <a:ext cx="818172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children try to challenge the soldiers and pass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3680" y="-1440"/>
            <a:ext cx="75751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أطفال تحدي الجنود وتجاوز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360440" y="-1440"/>
            <a:ext cx="6299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حتى الأصغر سنا يحاولون ولكن دون جدو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59440" y="6459480"/>
            <a:ext cx="4307760" cy="398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en younger ones try but in va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40644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-167400" y="-1440"/>
            <a:ext cx="95364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وينتهي بهم الأمر بتلقي دروسهم في الشارع عند نقطة التفتي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0840" y="6459480"/>
            <a:ext cx="792864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y end up having their classes in the street by the checkpoi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75440" y="-1440"/>
            <a:ext cx="36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الها من شجاعة مدهش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2960" y="6459480"/>
            <a:ext cx="290880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what an amazing spir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35568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84440" y="6459480"/>
            <a:ext cx="38275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the boys try a little bit hard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848240" y="-1440"/>
            <a:ext cx="54158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43a398"/>
                </a:solidFill>
                <a:latin typeface="Arial"/>
              </a:rPr>
              <a:t>يحاول الصبية على نحو أشد نوعا ما</a:t>
            </a:r>
            <a:r>
              <a:rPr b="1" lang="en-GB" sz="2400" spc="-1" strike="noStrike">
                <a:solidFill>
                  <a:srgbClr val="43a398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hard Arendt</cp:lastModifiedBy>
  <dcterms:modified xsi:type="dcterms:W3CDTF">2007-12-05T23:40:10Z</dcterms:modified>
  <cp:revision>1</cp:revision>
  <dc:subject/>
  <dc:title>PowerPoint Presentation</dc:title>
</cp:coreProperties>
</file>